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whoosh.wav" ContentType="audio/x-wav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A6EA4-086A-46C7-8F68-89912AEFAB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56CC-4F44-4781-875A-FEEAB65BD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0E09-8F74-4F4F-8CEF-00770D19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B94D-77B8-41CD-AF18-C7A81F0EE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5079-6025-42DF-8BCF-B506A137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A9AA-4830-407E-AC5E-2F2035DB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24A3-19BA-4D52-B983-FDD292D4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51E-5EE6-493E-9833-64D1D062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6844-C684-4B50-8677-03ADE01A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94FE-B8BE-4C42-BC67-BB13AB70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F04-BC33-478F-89D9-3BB3CCA04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535C-2746-45E8-A263-AF1D0645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1274-A3BE-4825-BE17-86330A72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94EB-FD12-4F74-90FD-BD2E2744F78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 and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f-poll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len from the anther is transferred to the st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image?id=95387&amp;rendTypeId=34"/>
          <p:cNvPicPr/>
          <p:nvPr/>
        </p:nvPicPr>
        <p:blipFill>
          <a:blip r:embed="rId1"/>
          <a:stretch/>
        </p:blipFill>
        <p:spPr>
          <a:xfrm>
            <a:off x="4718160" y="1523880"/>
            <a:ext cx="4197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en from the anther of one plant is transferred to the the stigma of a different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mage?id=95388&amp;rendTypeId=34"/>
          <p:cNvPicPr/>
          <p:nvPr/>
        </p:nvPicPr>
        <p:blipFill>
          <a:blip r:embed="rId1"/>
          <a:stretch/>
        </p:blipFill>
        <p:spPr>
          <a:xfrm>
            <a:off x="1371600" y="34290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685800"/>
          <a:ext cx="8229600" cy="6172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mall petals, often brown or dull gre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s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produced in great quant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cause most does not reach another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very light and smoot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 it can be blown in the 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thers loosely attached and dangle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release pollen into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hangs outside the flower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feathery or net 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77"/>
          <p:cNvSpPr/>
          <p:nvPr/>
        </p:nvSpPr>
        <p:spPr>
          <a:xfrm>
            <a:off x="1600200" y="15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ind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nd/Insect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238720" y="2057400"/>
            <a:ext cx="34480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04920" y="762120"/>
          <a:ext cx="8534160" cy="590688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arge, brightly coloured pe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often sweetly sc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sually contain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oderate quantity of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ess wastage than with wind poll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often sticky or sp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stick to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nthers firm and insid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brush agains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inside th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o that the insect brushes against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has sticky c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sticks to i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51"/>
          <p:cNvSpPr/>
          <p:nvPr/>
        </p:nvSpPr>
        <p:spPr>
          <a:xfrm>
            <a:off x="1981080" y="152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sect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image?id=63305&amp;rendTypeId=4"/>
          <p:cNvPicPr/>
          <p:nvPr/>
        </p:nvPicPr>
        <p:blipFill>
          <a:blip r:embed="rId1"/>
          <a:srcRect l="0" t="8926" r="0" b="5121"/>
          <a:stretch/>
        </p:blipFill>
        <p:spPr>
          <a:xfrm>
            <a:off x="914400" y="1297080"/>
            <a:ext cx="76802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35:09Z</dcterms:created>
  <dc:creator>hhashmi</dc:creator>
  <dc:description/>
  <dc:language>en-US</dc:language>
  <cp:lastModifiedBy>RomaK</cp:lastModifiedBy>
  <dcterms:modified xsi:type="dcterms:W3CDTF">2015-09-04T11:08:03Z</dcterms:modified>
  <cp:revision>10</cp:revision>
  <dc:subject/>
  <dc:title>Pollination and Fertilisation</dc:title>
</cp:coreProperties>
</file>